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D5B-0642-4B97-87B4-253B788C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2BD-6F15-4540-99FE-13DEBC18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A9BC7A-A746-43C9-B805-643F31F2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9453ED-3E6F-4336-944D-069811B4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07E2A7-A504-4239-A1B4-8A18F01C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73AD8-EFA9-4908-8399-640DB8B5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FA58E4-C799-49F4-8FE7-00B9AF09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23A5B0-76AD-4180-A6A6-3A367F60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F6AD42-D696-438E-9B67-34678385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C58CD-1D9C-4317-A13D-91F5EDF4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9724C6-A7C5-4B10-BB48-286E2645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80CBF7-D4AF-435F-8CBE-DFB488EA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D56-929D-4CF4-BD48-48102A7B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3569CE-302C-405A-B457-66D621D2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590BB1-1F19-48E2-B326-F6CB8356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3418F-FAE3-4650-A1B2-480F0FF4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C000BC-A1D0-44D4-B030-57FDDD08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1C431E-2BF7-4950-8AE4-CEB052B3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752DB-1C0D-4E0E-A43E-02C51F87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DB653-66F4-45D6-9879-FE94D149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658ED-29EC-4E1E-8394-4B11A907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CFB4B5-4755-41B2-834D-D579AC23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2273D-FA06-4773-BBA0-6EE7E68D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69B-A4CC-48F8-B071-AE5A1640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218EA9-F487-4AAA-B3D0-9EC06429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61D9D-0ACF-4AC3-B8D3-41C0988B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F9749-779D-4243-B122-43E679EB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F81F5-5CA8-425B-8560-A4E0C211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80FF7-3F2B-446B-BE74-48EED121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9F638-2F75-431E-BF5B-4F839087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49950-A183-4C84-A164-E58E54C5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41CA2-6F13-4A5D-A3B0-0FC462FA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5D085-7AF6-410E-A94D-61227A5A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21545-85DE-435E-814F-DD31E5FE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E686-A16E-455A-B8A8-441DA930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2AD06-8F2C-45FB-AA68-1356BA9B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01AB5-DE9E-4328-AE81-3D3BE473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EF6B3-35BC-4A10-A7A1-E83641F9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700D7-1080-47DD-A20C-4BCD9A00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FB68DB-F8F5-4E67-824B-099DB584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AE9CFB-9945-48C2-BCD5-9573FFB1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FAB9DE-5364-4B03-8CC0-C1DABDD7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7CFB1C-7B28-4E68-A39C-685BAAEB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BE6E36-44B7-4279-B1BB-660390ED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FCBB82-CD82-4E0D-93BE-32443CAA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662C-8F75-4371-8E71-E063E903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6ED6E-13D2-4571-84D9-27D6DD32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67D3F-A707-4941-BBD9-E224A706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EC4173-EE52-489D-B98E-A6D388CB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5500D7-7E5E-4447-9E34-C019D578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A5351B-C4A5-4466-9930-DB711A23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8E01-F81D-4F59-B6D4-7BA40297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A4BD-1672-4971-887E-F2D94E61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4F9C-3B9E-454C-AD60-4A1671AF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FD96-6F91-44BC-B910-5D6BD01A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AF9E-359B-48E2-846F-5D1DD463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D5FE-EA90-4808-AEF3-72BFE4FA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423F-8839-425A-81FC-5BE2FBEF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8707-FA0C-4123-B81D-9EBA4172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7CFE-43AA-4C48-88D5-1FE6FE5A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20FD-3A86-499D-89BE-72086826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662B-BB04-4512-92AF-9C72C3E9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05CFA-4A8C-4929-8944-08965EAD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A24B5-B2E8-46B7-BE89-6686309B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2A3FC-889E-4A9E-87C2-0B6FB9AE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C2551-7AE5-4116-938F-8D3DDF88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0F753-63FC-448C-B955-FE8FD237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4E28-EEA2-499E-9E29-8134C501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A7470-48C3-4FEB-A9D2-F096731C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3DDD9-6C64-4B4D-83F6-5D3AD1B0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A9469-695D-47B4-B9EA-5EA9C4EE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25C5E-318F-47A7-BBAE-06E2AF3F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B3C41-7207-4ADE-98A9-D916F353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72A9C-D876-4CF6-BF62-88A421BB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A1761-3473-4E34-9E2C-2BC5A718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F5FF2-FEE6-4314-B0D3-5B9153F1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182CC-D7EA-4D9D-A7EF-47286B37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22B21-8132-48EB-8D35-8D709DF6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3C2-7D40-4E76-A1C7-5D44D007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6741B-CBA3-4C4A-9B84-F16A68A3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A1741-C36A-43D8-85DA-593717D3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E3BAF-6C51-4693-9180-933394B5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681DF-BF98-4EAF-BA9E-9CFFDBE1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D1F4E-7DF8-4923-A431-17CDF7F6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D4E58-DC6A-4FBA-A794-24932052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CFF46-7E23-4E19-A2BA-C5A79920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60C8D-C4CD-48A1-B3F0-03804B07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DBD9D-A1D9-4890-9DA1-60C3E98F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636A4-1FF3-4BD1-832B-0D717829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F36-3B91-4E60-BF90-62920E71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F9E45-4246-49EE-AB9A-7BEA5061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21F22-4871-4C4F-B3DE-C045E37C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712EB-0D20-4D12-91C4-4274528F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6FA39-84CD-4EC3-90ED-6FB018A0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91902-528F-4828-AF32-AAB38A2A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9432C-79D0-48CB-9AC3-C42C0F5D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8B03E-0725-4C4D-9AE3-D1828266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5536D-5D5B-4ED6-BA30-D260B665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B01CE-BB30-4FF7-B2E5-D849009E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F2EB8-9CEF-4429-8DD9-AC871197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9384-4F7D-49D2-9176-D20F3AD4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C1AAC-5935-4614-9583-1EEED3CF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8C657-F5B5-4B1C-9834-872FCF5F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74454-31F6-4455-B0B0-C2863B02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AD5F0-5AD7-4DA8-96B5-03EFA8B9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40D37-DB94-48ED-B6DA-EA58C193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00FCF-F385-4A46-8E42-3252FF06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EC0A7-FDCC-4819-AA72-30D1AB07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C2EE0-D64F-4159-994F-66FE9FD3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82ECA-3574-4D85-8FBC-39892896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A7F4A-1A73-46CB-B5EC-2EBB6485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00C6-201E-4117-8876-D32C8EBD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C9FE1-5C97-411A-9D30-F795914A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324E8-8AEA-4993-BCC6-8D0A7A42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619D2-22C7-4283-8D90-F361ACF9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6EABA-AAB5-4FB4-835E-8E250FC5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9A040-D875-4EE6-8AE8-425D7B64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1271B-FD99-48F1-AB77-A9899547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34A75-55CA-41CB-9A17-670C400F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46E16-821F-4DA8-823F-0609A2D7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4DED2-285B-4E48-A2C7-66C1C570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56C7E-AD9D-4C7F-8F7C-3AAF3386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68FD-3D60-4040-9A2A-89CD1F50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7BD48-4038-4C01-88F7-091D00E9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DC35F-C113-478F-B214-B5967B17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C81BF-9E11-4867-853D-4BDC4DC2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9902B-2821-4FAA-B91C-AEE16CA7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3457A-E070-4B33-BD75-49B5A593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DC07B-9B73-40D8-B10B-333C962E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DAB87-330F-4D44-B154-163E8929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31164-73AB-41C5-A160-71C6D55A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BC612-0F2D-427C-B102-0521B2F7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A197B-F099-430B-998C-33256709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810-FD5B-4908-92FC-3EEE552B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23C04-0DC8-4700-A458-57ACEB58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1AF8A-320E-4EF9-9B7A-0258E4EF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93D13-2276-4375-A79D-B471A89C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7F7F0-D1C3-4943-9688-F5FCE4CA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63146-45BB-4DD2-9DCB-1B3CC8D0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9AB31-E5AE-4762-91C8-C50C2B2A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2C3EE-EEEB-4BB0-8D90-8986B67B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8E6792-8851-49E6-966A-12F3A710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7F5F1C-5D4C-4AF2-AFA9-D416382E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7521F3-00E6-4664-9EFD-99E46A81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4BFC-4738-4903-BCC0-8993C4377E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B38F-389D-4E0A-B47D-54DE3FA1B0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D4B6-B3FE-4E29-B3B8-C441B6ACF9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C663-9DC4-43E8-998A-9D93D5BDA1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5B0F-79A2-4FE1-8EE0-F62E17710C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FE27-CAB5-495E-B532-14D8501721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1E59-381E-46B6-BED2-E268434D27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1255-319D-431D-9713-3153158F73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FD69-F816-4CB6-A51E-2465FF001C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EBDE-223D-4810-BE11-ECD42F7C36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F21C-2690-467E-B4C3-A6C5799C09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B552-80F9-4DDC-8851-C19B1203A9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7/72/IllyrianCavarlywithAxe.jpg&amp;imgrefurl=http://commons.wikimedia.org/wiki/File:IllyrianCavarlywithAxe.jpg&amp;usg=__F-pj013OSlFmC0ZIIew9OYH0MEk=&amp;h=356&amp;w=344&amp;sz=106&amp;hl=en&amp;start=16&amp;um=1&amp;itbs=1&amp;tbnid=1GRpo1TlCP3g3M:&amp;tbnh=121&amp;tbnw=117&amp;prev=/images?q=Illyrian&amp;um=1&amp;hl=en&amp;safe=active&amp;sa=X&amp;tbs=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thodox-christian-comment.co.uk/conten2.jpg&amp;imgrefurl=http://www.orthodox-christian-comment.co.uk/contents_list&amp;index.htm&amp;usg=___VR9E3Kz1pMea7s5dWysOqcozqI=&amp;h=506&amp;w=503&amp;sz=50&amp;hl=en&amp;start=3&amp;um=1&amp;itbs=1&amp;tbnid=_dxd317GUamubM:&amp;tbnh=131&amp;tbnw=130&amp;prev=/images?q=Orthodox+christian&amp;um=1&amp;hl=en&amp;safe=active&amp;tbs=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AYRE, CLAIRE, SAMANTH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Montenegrin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ere did the people come from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llyria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Original people of the region between Danube River southward to the Adriatic Sea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ad many separate trib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 mixture of colonists and trader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igrated towards the se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10" name="Picture 2" descr="http://t1.gstatic.com/images?q=tbn:1GRpo1TlCP3g3M:http://upload.wikimedia.org/wikipedia/commons/7/72/IllyrianCavarlywithAx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2666880"/>
            <a:ext cx="350532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Who were they ruled by and in what time period?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371240"/>
            <a:ext cx="8504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168 BC Roman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en-US" sz="23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and 6</a:t>
            </a:r>
            <a:r>
              <a:rPr b="0" lang="en-US" sz="23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century Goths and Avar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900-1186 Slavic State of Duklja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1186-1355 House of Nemanjic -- Serbia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1421-1451 Despotat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15</a:t>
            </a:r>
            <a:r>
              <a:rPr b="0" lang="en-US" sz="23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century – 1797 Republic of Venic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1797-1806 Austria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1806-1807 Russia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1807-1813 Franc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1814-1918 Austria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1918 Kingdom of Serbia, Croatia and Slovenia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1929 Renamed Kingdom of Yugoslavia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1992 Socialist Federal Republic of Yugoslavia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2003 State Union of Serbia and Montenegro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2006 Republic of Montenegro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did this ruler/ ruling group influence the region/ ethnic group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lavic state of Duklj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Slavs accept Christianity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Mix Roman, Illyrian, and Slav culture and ethnic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urks –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Split the land into territories, territories were ruled separately 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Kingdom of Serbia, Croatia and Sloven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began to strive for political and religious unity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What war/ Conflicts were they involved in before the breakup of Yugoslavia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456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Battle of Bar – 1042 Romans and Duklja stat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Battle of Kosovo– 1389 Serbian Despotate and Ottoman Empir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Battle of Rzanica – 1466 Albania and Montenegro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1796 -- Old Montenegro and Ottoman Empir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Battle of Krusi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Battle of Lopate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1858 – Montenegro and Ottoman Empire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Battle of Grahovac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Battle of Kolasin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1876-- Montenegro and Ottoman Empir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Battle of Fundina 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Battle of Vucji Do 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Battle of Kalimanci – 1913 Second Balkan Wa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WI --  fought with Serbia and the alli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Battle of Mojkovac 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Montenegro vs. Italian occupier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WII – fought with Yugoslav troops against Fascis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http://europeandcis.undp.org/uploads/public1/images/Montenegro_Flag-RESIZE-s925-s450-fit.jpg"/>
          <p:cNvPicPr/>
          <p:nvPr/>
        </p:nvPicPr>
        <p:blipFill>
          <a:blip r:embed="rId1"/>
          <a:stretch/>
        </p:blipFill>
        <p:spPr>
          <a:xfrm>
            <a:off x="5029200" y="259092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religion do the practice (majority)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rthodox Christia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2" descr="http://t1.gstatic.com/images?q=tbn:_dxd317GUamubM:http://www.orthodox-christian-comment.co.uk/conten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057400"/>
            <a:ext cx="426744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their economy based o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rviced bas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 an economic transition, currently recovering from the Yugoslavian Wa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http://t2.gstatic.com/images?q=tbn:_9HiU8Eo_aAgCM:http://www.bestwaytoinvest.com/UserFiles/Image/panama-.jpg"/>
          <p:cNvPicPr/>
          <p:nvPr/>
        </p:nvPicPr>
        <p:blipFill>
          <a:blip r:embed="rId1"/>
          <a:stretch/>
        </p:blipFill>
        <p:spPr>
          <a:xfrm>
            <a:off x="3962520" y="2514600"/>
            <a:ext cx="2800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9899"/>
                </a:solidFill>
                <a:latin typeface="Georgia"/>
              </a:rPr>
              <a:t>Describe 3 ways the physical geography of the region impacted the development of the ethnic group?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lls and mountains separated groups of people who then developed their own culture across the country especially separated coastline and inlan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ong the coastline and deep swift rivers groups based around fishing develope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avily forested area divided ethnic group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6" name="Picture 3" descr="map_rlf.gif"/>
          <p:cNvPicPr/>
          <p:nvPr/>
        </p:nvPicPr>
        <p:blipFill>
          <a:blip r:embed="rId1"/>
          <a:stretch/>
        </p:blipFill>
        <p:spPr>
          <a:xfrm>
            <a:off x="6324480" y="4343400"/>
            <a:ext cx="2211480" cy="21337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http://t0.gstatic.com/images?q=tbn:Xi_gRjqc-M99OM:http://www.lib.utexas.edu/maps/europe/serbia_montenegro_pol_97.jpg"/>
          <p:cNvPicPr/>
          <p:nvPr/>
        </p:nvPicPr>
        <p:blipFill>
          <a:blip r:embed="rId2"/>
          <a:stretch/>
        </p:blipFill>
        <p:spPr>
          <a:xfrm>
            <a:off x="1371600" y="4294080"/>
            <a:ext cx="20574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5:27:26Z</dcterms:created>
  <dc:creator>clairemsindlinger</dc:creator>
  <dc:description/>
  <dc:language>en-US</dc:language>
  <cp:lastModifiedBy>Sam</cp:lastModifiedBy>
  <dcterms:modified xsi:type="dcterms:W3CDTF">2010-05-10T00:38:40Z</dcterms:modified>
  <cp:revision>28</cp:revision>
  <dc:subject/>
  <dc:title>Montenegrins</dc:title>
</cp:coreProperties>
</file>